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5A11-02F2-44ED-BDDF-072A3CAE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D90D-C6FF-4F9D-BDB6-35C36EAF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E9CA-481D-448B-8F63-3BE6D131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sciencehq.com/biology/kingdoms-lif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6D6-A9E3-4FFA-930C-83F693CF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arner.org/courses/envsci/unit/text.php?unit=9&amp;secNum=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 Woese…shows evolutionary relationships between 3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D630-379A-4760-95EF-19CCEA01C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intersscience.wikispaces.com/Kingdoms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lso Table 1 on page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5A9-A1A9-4E0C-A493-ECA73215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barcodes.co.za/blog/the-barcode-of-life-dna-barcoding-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3566-DB48-47AF-BD64-3118C9FE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lad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D6CE-FE2E-4527-AB73-844851A2B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b.bioninja.com.au/options/option-d-evolution-2/d5-phylogeny-and-systemat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C76E-AD36-4323-AD60-889ABCBE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logeny/LecPhylogen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BD4-4B04-4162-9F32-5E2984BE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nature/journal/v496/n7445/fig_tab/nature12027_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2B3F-8E92-4268-870A-4BE4BA61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workhelper.net/evolution-synapomorphies-clado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FAE7-1174-4E79-A6E2-96618747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zzlersworld.com/picture-puzzles/how-many-triangles-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DBD-195C-4F22-9520-0F5764C5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112-1A79-4E62-A42B-2651B3AF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0B5-A54D-4E7B-BD3B-7FBEC56C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D69-A1C3-4D96-B909-082BFDFD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1E0-C918-489C-8043-00A98385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33F-AFDF-44D4-A941-6A1B42EA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7FB-1B4B-47E5-BAB1-3DB2BF45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51E-3C55-4315-9686-5DB9E3C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CD3-A9EE-4ADF-B549-34732B7E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55E-B1E0-4CAF-9FAC-5F2498CD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33A-DB6C-44D6-B742-9076B48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FFD-B4DC-4D10-B51E-D1E60E9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FC5D-E887-4989-AE21-41C1B02F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rcodeoflife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&amp;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s &amp;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kingdoms"/>
          <p:cNvPicPr/>
          <p:nvPr/>
        </p:nvPicPr>
        <p:blipFill>
          <a:blip r:embed="rId1"/>
          <a:stretch/>
        </p:blipFill>
        <p:spPr>
          <a:xfrm>
            <a:off x="685800" y="1689120"/>
            <a:ext cx="77724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common_ancestor"/>
          <p:cNvPicPr/>
          <p:nvPr/>
        </p:nvPicPr>
        <p:blipFill>
          <a:blip r:embed="rId1"/>
          <a:stretch/>
        </p:blipFill>
        <p:spPr>
          <a:xfrm>
            <a:off x="304920" y="1682640"/>
            <a:ext cx="86104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6 Kingd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10-02-26_1200"/>
          <p:cNvPicPr/>
          <p:nvPr/>
        </p:nvPicPr>
        <p:blipFill>
          <a:blip r:embed="rId1"/>
          <a:stretch/>
        </p:blipFill>
        <p:spPr>
          <a:xfrm>
            <a:off x="304920" y="1787400"/>
            <a:ext cx="85341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code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021600_orig"/>
          <p:cNvPicPr/>
          <p:nvPr/>
        </p:nvPicPr>
        <p:blipFill>
          <a:blip r:embed="rId1"/>
          <a:stretch/>
        </p:blipFill>
        <p:spPr>
          <a:xfrm>
            <a:off x="981000" y="1676520"/>
            <a:ext cx="7027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 interested in learning m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ational consortium developing DNA barcoding for species ident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arcodeoflife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fact: DNA barcoding was first proposed by Paul Hebert, a researcher at the University of Guelph in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hyloge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evolutionary relatedness between, and amo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etic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to show evolutionary relationships between different spe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 called clad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50px-Identical_cladograms"/>
          <p:cNvPicPr/>
          <p:nvPr/>
        </p:nvPicPr>
        <p:blipFill>
          <a:blip r:embed="rId1"/>
          <a:stretch/>
        </p:blipFill>
        <p:spPr>
          <a:xfrm>
            <a:off x="4267080" y="2549520"/>
            <a:ext cx="4572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hylogeny_tree_med"/>
          <p:cNvPicPr/>
          <p:nvPr/>
        </p:nvPicPr>
        <p:blipFill>
          <a:blip r:embed="rId1"/>
          <a:stretch/>
        </p:blipFill>
        <p:spPr>
          <a:xfrm>
            <a:off x="685800" y="1289160"/>
            <a:ext cx="7772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5-11-Cladogram-AL"/>
          <p:cNvPicPr/>
          <p:nvPr/>
        </p:nvPicPr>
        <p:blipFill>
          <a:blip r:embed="rId1"/>
          <a:stretch/>
        </p:blipFill>
        <p:spPr>
          <a:xfrm>
            <a:off x="304920" y="1657440"/>
            <a:ext cx="85341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nature12027-f1"/>
          <p:cNvPicPr/>
          <p:nvPr/>
        </p:nvPicPr>
        <p:blipFill>
          <a:blip r:embed="rId1"/>
          <a:stretch/>
        </p:blipFill>
        <p:spPr>
          <a:xfrm>
            <a:off x="993600" y="304920"/>
            <a:ext cx="715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groups of organisms &amp; their common ance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monophylet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monophyly"/>
          <p:cNvPicPr/>
          <p:nvPr/>
        </p:nvPicPr>
        <p:blipFill>
          <a:blip r:embed="rId1"/>
          <a:stretch/>
        </p:blipFill>
        <p:spPr>
          <a:xfrm>
            <a:off x="4621320" y="1676520"/>
            <a:ext cx="3862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triang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ow-many-triangles-in-this-triangle"/>
          <p:cNvPicPr/>
          <p:nvPr/>
        </p:nvPicPr>
        <p:blipFill>
          <a:blip r:embed="rId1"/>
          <a:stretch/>
        </p:blipFill>
        <p:spPr>
          <a:xfrm>
            <a:off x="1670040" y="1523880"/>
            <a:ext cx="580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ry Tutorial 1 on pages 22-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9:44:34Z</dcterms:created>
  <dc:creator>rubina khan</dc:creator>
  <dc:description/>
  <dc:language>en-US</dc:language>
  <cp:lastModifiedBy>rubina khan</cp:lastModifiedBy>
  <dcterms:modified xsi:type="dcterms:W3CDTF">2016-02-10T03:59:05Z</dcterms:modified>
  <cp:revision>28</cp:revision>
  <dc:subject/>
  <dc:title>PowerPoint Presentation</dc:title>
</cp:coreProperties>
</file>